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0458-2CB8-4A6D-9C22-09FF0CA2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087-A56E-4B3D-98D4-14520C28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B26-AA41-441F-96B7-4E9AFE5C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384-3635-43D7-A1C0-81237A22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0F3-3EEE-492D-9B32-8DD71754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A262-6E54-4EFF-87E6-EBF2C6A8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7EE5-1E50-43E5-A2F5-9C8B2CA6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70A-312C-4191-8C36-FDA24D72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5E6-B93A-4E37-A370-8AA9A7CF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E5C-0D24-4A4B-9E43-B26FD65A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701-3562-4A97-9B48-490CE1C0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C05-2338-4428-9BC1-CEC51897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6156360"/>
            <a:ext cx="6858000" cy="29876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0D04-F6A8-444B-8399-FF71221063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9720" y="8897760"/>
            <a:ext cx="147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0" y="0"/>
            <a:ext cx="6858000" cy="298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10"/>
          <p:cNvSpPr/>
          <p:nvPr/>
        </p:nvSpPr>
        <p:spPr>
          <a:xfrm>
            <a:off x="0" y="2987640"/>
            <a:ext cx="6858000" cy="3168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Скругленный прямоугольник 11"/>
          <p:cNvSpPr/>
          <p:nvPr/>
        </p:nvSpPr>
        <p:spPr>
          <a:xfrm>
            <a:off x="189000" y="179280"/>
            <a:ext cx="6480000" cy="8785440"/>
          </a:xfrm>
          <a:custGeom>
            <a:avLst/>
            <a:gdLst>
              <a:gd name="textAreaLeft" fmla="*/ 316080 w 6480000"/>
              <a:gd name="textAreaRight" fmla="*/ 6163920 w 6480000"/>
              <a:gd name="textAreaTop" fmla="*/ 316080 h 8785440"/>
              <a:gd name="textAreaBottom" fmla="*/ 8469360 h 8785440"/>
            </a:gdLst>
            <a:ahLst/>
            <a:rect l="textAreaLeft" t="textAreaTop" r="textAreaRight" b="textAreaBottom"/>
            <a:pathLst>
              <a:path w="21600" h="29284">
                <a:moveTo>
                  <a:pt x="3600" y="0"/>
                </a:moveTo>
                <a:arcTo wR="3600" hR="3600" stAng="16200000" swAng="-5400000"/>
                <a:lnTo>
                  <a:pt x="0" y="25684"/>
                </a:lnTo>
                <a:arcTo wR="3600" hR="3600" stAng="10800000" swAng="-5400000"/>
                <a:lnTo>
                  <a:pt x="18000" y="29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2" descr=""/>
          <p:cNvPicPr/>
          <p:nvPr/>
        </p:nvPicPr>
        <p:blipFill>
          <a:blip r:embed="rId2"/>
          <a:stretch/>
        </p:blipFill>
        <p:spPr>
          <a:xfrm rot="21200400">
            <a:off x="404640" y="277920"/>
            <a:ext cx="1764000" cy="135252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4" descr="as (2).jpg"/>
          <p:cNvPicPr/>
          <p:nvPr/>
        </p:nvPicPr>
        <p:blipFill>
          <a:blip r:embed="rId3"/>
          <a:stretch/>
        </p:blipFill>
        <p:spPr>
          <a:xfrm>
            <a:off x="5661000" y="6372360"/>
            <a:ext cx="884160" cy="22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olnet.ee/sol/006/m_009.html" TargetMode="External"/><Relationship Id="rId2" Type="http://schemas.openxmlformats.org/officeDocument/2006/relationships/hyperlink" Target="http://bibnout.ru/wp-content/uploads/2010/10/vs23.jpg" TargetMode="External"/><Relationship Id="rId3" Type="http://schemas.openxmlformats.org/officeDocument/2006/relationships/hyperlink" Target="http://www.vector.tver.ru/funny_04_files/original_images/p0000068.jpg" TargetMode="External"/><Relationship Id="rId4" Type="http://schemas.openxmlformats.org/officeDocument/2006/relationships/hyperlink" Target="http://cdn7.fotosearch.com/bthumb/CSP/CSP381/k3815767.jpg" TargetMode="External"/><Relationship Id="rId5" Type="http://schemas.openxmlformats.org/officeDocument/2006/relationships/hyperlink" Target="http://www.edu.cap.ru/home/4569/1%20deti.jpg" TargetMode="External"/><Relationship Id="rId6" Type="http://schemas.openxmlformats.org/officeDocument/2006/relationships/hyperlink" Target="http://www.goodclipart.ru/data/gorod/REALEST2/13/RL1377.png" TargetMode="External"/><Relationship Id="rId7" Type="http://schemas.openxmlformats.org/officeDocument/2006/relationships/hyperlink" Target="http://www.cartoonclipartfree.com/Cliparts_Free/Urlaub_Free/Cartoon-Clipart-Free-05.gif" TargetMode="External"/><Relationship Id="rId8" Type="http://schemas.openxmlformats.org/officeDocument/2006/relationships/hyperlink" Target="http://logopedprm.ru/wp-content/uploads/2012/05/20002.preview-300x208.jpg" TargetMode="External"/><Relationship Id="rId9" Type="http://schemas.openxmlformats.org/officeDocument/2006/relationships/hyperlink" Target="http://solnyshko.ucoz.com/foto001.jpg" TargetMode="External"/><Relationship Id="rId10" Type="http://schemas.openxmlformats.org/officeDocument/2006/relationships/hyperlink" Target="http://i061.radikal.ru/1112/af/c037d08eaefc.jpg" TargetMode="External"/><Relationship Id="rId11" Type="http://schemas.openxmlformats.org/officeDocument/2006/relationships/hyperlink" Target="http://www.quirkycottages.com/Editor/assets/reading%20family%20on%20couch.jpg" TargetMode="External"/><Relationship Id="rId12" Type="http://schemas.openxmlformats.org/officeDocument/2006/relationships/hyperlink" Target="http://www.zaripov.davlimaik.edusite.ru/images/post-238442-1273594121_thumb.png" TargetMode="External"/><Relationship Id="rId13" Type="http://schemas.openxmlformats.org/officeDocument/2006/relationships/hyperlink" Target="http://img-fotki.yandex.ru/get/5818/25585874.167/0_9ff35_37c6bef_XL" TargetMode="External"/><Relationship Id="rId14" Type="http://schemas.openxmlformats.org/officeDocument/2006/relationships/hyperlink" Target="http://detsad86.ucoz.ru/kartinki/na_velosipede.png" TargetMode="External"/><Relationship Id="rId15" Type="http://schemas.openxmlformats.org/officeDocument/2006/relationships/hyperlink" Target="http://www.freestyle.pl/_photo/thumb/0_0_r/b/7dd2572ffa5113a43b1156ff3bb138fb.jpg?d=0857" TargetMode="External"/><Relationship Id="rId16" Type="http://schemas.openxmlformats.org/officeDocument/2006/relationships/hyperlink" Target="http://images.clipartof.com/small/1095333-Happy-Boy-Wearing-A-Helmet-And-Riding-A-Bicycle-Poster-Art-Print.jpg" TargetMode="External"/><Relationship Id="rId17" Type="http://schemas.openxmlformats.org/officeDocument/2006/relationships/hyperlink" Target="http://900igr.net/datai/obg/Avtomobil/0032-046-Esli-est-tebe-14-let-kupi-bolshoj-velosiped.jpg" TargetMode="External"/><Relationship Id="rId18" Type="http://schemas.openxmlformats.org/officeDocument/2006/relationships/hyperlink" Target="http://school.discoveryeducation.com/clipart/images/scooter-boy-color.gif" TargetMode="External"/><Relationship Id="rId19" Type="http://schemas.openxmlformats.org/officeDocument/2006/relationships/hyperlink" Target="http://activerain.com/image_store/uploads/6/0/6/6/8/ar129573181086606.jpg" TargetMode="External"/><Relationship Id="rId20" Type="http://schemas.openxmlformats.org/officeDocument/2006/relationships/hyperlink" Target="http://www.quia.com/files/quia/users/ritacarvalho/soccerboy.gif" TargetMode="External"/><Relationship Id="rId21" Type="http://schemas.openxmlformats.org/officeDocument/2006/relationships/hyperlink" Target="http://us.cdn1.123rf.com/168nwm/lenm/lenm1011/lenm101100010/8129527-un-grupo-de-pequenas-de-kids-cruzando-la-calle-going-to-school.jpg" TargetMode="External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1700280" y="324000"/>
            <a:ext cx="41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МК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Искитим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Новосиби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628640" y="7667640"/>
            <a:ext cx="371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Автор-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2012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2050560"/>
            <a:ext cx="5829120" cy="42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У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г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о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л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о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к 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б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е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з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п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а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с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н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о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с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т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2565360" y="250920"/>
            <a:ext cx="319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й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1773360" y="176364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щий трамвай следует обходить спереди. (Если обходить его сзади, можно попасть под встречный трамвай или другой транспор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333360" y="3971880"/>
            <a:ext cx="481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ус и троллейбус обходи сзади. (Если обходить спереди, из-за них не видно едущих за ними маши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333360" y="630072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населенных пунктов пешеходы должны идти по обочине или краю проезжей части навстречу движению транспорт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5" descr="40bffe8a4d5e.png"/>
          <p:cNvPicPr/>
          <p:nvPr/>
        </p:nvPicPr>
        <p:blipFill>
          <a:blip r:embed="rId1"/>
          <a:stretch/>
        </p:blipFill>
        <p:spPr>
          <a:xfrm>
            <a:off x="260280" y="2268360"/>
            <a:ext cx="1629000" cy="108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508640" y="5148360"/>
            <a:ext cx="20160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76640" y="366840"/>
            <a:ext cx="4238640" cy="11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с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п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л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ь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з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у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е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м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ы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е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с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т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ч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н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и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42720" y="1547280"/>
            <a:ext cx="6172200" cy="662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onotype Corsiva"/>
              </a:rPr>
              <a:t>Источники информа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олков В. Как избежать беды. Советы подполковника милиции. «Век 2», 199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ублях В. Э. Правила дорожного движения. Книга для учащихся первого класса. М.: «Просвещение», 198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ыбин А. Л. Дорожная азбука велосипедиста. М.: «Просвещение», 199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Уроки хороших манер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www.solnet.ee/sol/006/m_009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onotype Corsiva"/>
              </a:rPr>
              <a:t>Картинки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Эмблема «Уголок безопасности»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bibnout.ru/wp-content/uploads/2010/10/vs23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Светофор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13-7dddtf6ak4b6b5d.xn--p1ai/e2/templates/pwr/foto/as%20(2)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вочка с телефонной трубкой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www.vector.tver.ru/funny_04_files/original_images/p000006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Мальчик с собакой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4"/>
              </a:rPr>
              <a:t>http://cdn7.fotosearch.com/bthumb/CSP/CSP381/k3815767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ти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5"/>
              </a:rPr>
              <a:t>http://www.edu.cap.ru/home/4569/1%20deti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ом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6"/>
              </a:rPr>
              <a:t>http://www.goodclipart.ru/data/gorod/REALEST2/13/RL1377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Путешественник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7"/>
              </a:rPr>
              <a:t>http://www.cartoonclipartfree.com/Cliparts_Free/Urlaub_Free/Cartoon-Clipart-Free-05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ебёнок и незнакомец в лифте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8"/>
              </a:rPr>
              <a:t>http://logopedprm.ru/wp-content/uploads/2012/05/20002.preview-300x20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ебёнок у двери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9"/>
              </a:rPr>
              <a:t>http://solnyshko.ucoz.com/foto001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Машина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0"/>
              </a:rPr>
              <a:t>http://i061.radikal.ru/1112/af/c037d08eaefc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ебёнок с родителями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1"/>
              </a:rPr>
              <a:t>http://www.quirkycottages.com/Editor/assets/reading%20family%20on%20couch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елосипедист, не держащийся за руль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2"/>
              </a:rPr>
              <a:t>http://www.zaripov.davlimaik.edusite.ru/images/post-238442-1273594121_thumb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вочка на велосипеде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3"/>
              </a:rPr>
              <a:t>http://img-fotki.yandex.ru/get/5818/25585874.167/0_9ff35_37c6bef_X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елосипедист с пассажиром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4"/>
              </a:rPr>
              <a:t>http://detsad86.ucoz.ru/kartinki/na_velosipede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Горе-велосипедист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5"/>
              </a:rPr>
              <a:t>http://www.freestyle.pl/_photo/thumb/0_0_r/b/7dd2572ffa5113a43b1156ff3bb138fb.jpg?d=085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елосипедист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6"/>
              </a:rPr>
              <a:t>http://images.clipartof.com/small/1095333-Happy-Boy-Wearing-A-Helmet-And-Riding-A-Bicycle-Poster-Art-Print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елосипедист 1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7"/>
              </a:rPr>
              <a:t>http://900igr.net/datai/obg/Avtomobil/0032-046-Esli-est-tebe-14-let-kupi-bolshoj-velosiped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Мальчик на самокате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8"/>
              </a:rPr>
              <a:t>http://school.discoveryeducation.com/clipart/images/scooter-boy-color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ти на санках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9"/>
              </a:rPr>
              <a:t>http://activerain.com/image_store/uploads/6/0/6/6/8/ar129573181086606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Футболист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20"/>
              </a:rPr>
              <a:t>http://www.quia.com/files/quia/users/ritacarvalho/soccerboy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ти переходят улицу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21"/>
              </a:rPr>
              <a:t>http://us.cdn1.123rf.com/168nwm/lenm/lenm1011/lenm101100010/8129527-un-grupo-de-pequenas-de-kids-cruzando-la-calle-going-to-school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ти идут парами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img-fotki.yandex.ru/get/5014/89635038.565/0_6d478_cfd1b8c4_X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Мальчик-полицейский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www.edu.cap.ru/Home/4590/mult41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Трамвай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s59.radikal.ru/i165/1201/b0/40bffe8a4d5e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Троллейбус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logograd.narod.ru/clipart/transport/nazemnyi/troleybus/page_0001/troleybus_0002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266560" y="611280"/>
            <a:ext cx="43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ы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260280" y="1619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 свою фамилию, имя, как зовут твоих родителей, свой адрес, телефоны – домашний и на работу маме и па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p0000068.jpg"/>
          <p:cNvPicPr/>
          <p:nvPr/>
        </p:nvPicPr>
        <p:blipFill>
          <a:blip r:embed="rId2"/>
          <a:stretch/>
        </p:blipFill>
        <p:spPr>
          <a:xfrm>
            <a:off x="3573360" y="2411280"/>
            <a:ext cx="800280" cy="933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699920" y="3419640"/>
            <a:ext cx="43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ходи далеко от дома, д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549360" y="3059280"/>
            <a:ext cx="869760" cy="86508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845280" y="421164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гуляй до темн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1 deti.jpg"/>
          <p:cNvPicPr/>
          <p:nvPr/>
        </p:nvPicPr>
        <p:blipFill>
          <a:blip r:embed="rId4"/>
          <a:stretch/>
        </p:blipFill>
        <p:spPr>
          <a:xfrm>
            <a:off x="4149720" y="3924360"/>
            <a:ext cx="1328760" cy="792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8"/>
          <p:cNvSpPr/>
          <p:nvPr/>
        </p:nvSpPr>
        <p:spPr>
          <a:xfrm>
            <a:off x="260280" y="493236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й безлюдных мест, оврагов, пустырей, заброшенных домов, подвалов, чердаков, сара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76280" y="702000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 вам пристают и пытаются удержать силой – кричи, вырывайся, зови на помощь прохож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1" descr="RL1377.jpg"/>
          <p:cNvPicPr/>
          <p:nvPr/>
        </p:nvPicPr>
        <p:blipFill>
          <a:blip r:embed="rId5"/>
          <a:stretch/>
        </p:blipFill>
        <p:spPr>
          <a:xfrm>
            <a:off x="1773360" y="5724360"/>
            <a:ext cx="9522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428400" y="1692360"/>
            <a:ext cx="54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правляйся один в дальние поез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2266560" y="611280"/>
            <a:ext cx="43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ы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Cartoon-Clipart-Free-05.gif"/>
          <p:cNvPicPr/>
          <p:nvPr/>
        </p:nvPicPr>
        <p:blipFill>
          <a:blip r:embed="rId1"/>
          <a:stretch/>
        </p:blipFill>
        <p:spPr>
          <a:xfrm>
            <a:off x="5734080" y="1332000"/>
            <a:ext cx="790560" cy="885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1484280" y="248436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ходи с незнакомым человеком в подъезд,  лиф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20002.preview-300x208.jpg"/>
          <p:cNvPicPr/>
          <p:nvPr/>
        </p:nvPicPr>
        <p:blipFill>
          <a:blip r:embed="rId2"/>
          <a:stretch/>
        </p:blipFill>
        <p:spPr>
          <a:xfrm>
            <a:off x="469800" y="2335320"/>
            <a:ext cx="932040" cy="957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260280" y="370836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крывай дверь людям, которых ты не зн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7" descr="foto001.jpg"/>
          <p:cNvPicPr/>
          <p:nvPr/>
        </p:nvPicPr>
        <p:blipFill>
          <a:blip r:embed="rId3"/>
          <a:stretch/>
        </p:blipFill>
        <p:spPr>
          <a:xfrm>
            <a:off x="5661000" y="3348000"/>
            <a:ext cx="782640" cy="1152720"/>
          </a:xfrm>
          <a:prstGeom prst="rect">
            <a:avLst/>
          </a:prstGeom>
          <a:ln w="0">
            <a:noFill/>
          </a:ln>
        </p:spPr>
      </p:pic>
      <p:sp>
        <p:nvSpPr>
          <p:cNvPr id="68" name="TextBox 8"/>
          <p:cNvSpPr/>
          <p:nvPr/>
        </p:nvSpPr>
        <p:spPr>
          <a:xfrm>
            <a:off x="2280960" y="4788000"/>
            <a:ext cx="38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адись в чужую маш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9" descr="c037d08eaefc.jpg"/>
          <p:cNvPicPr/>
          <p:nvPr/>
        </p:nvPicPr>
        <p:blipFill>
          <a:blip r:embed="rId4"/>
          <a:stretch/>
        </p:blipFill>
        <p:spPr>
          <a:xfrm>
            <a:off x="907920" y="4572000"/>
            <a:ext cx="1225800" cy="770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0"/>
          <p:cNvSpPr/>
          <p:nvPr/>
        </p:nvSpPr>
        <p:spPr>
          <a:xfrm>
            <a:off x="333360" y="558000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 предложения незнакомых отвечай: «Нет!» - немедленно уходи от них. Расскажи об этих предложениях родит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1" descr="reading family on couch.jpg"/>
          <p:cNvPicPr/>
          <p:nvPr/>
        </p:nvPicPr>
        <p:blipFill>
          <a:blip r:embed="rId5"/>
          <a:stretch/>
        </p:blipFill>
        <p:spPr>
          <a:xfrm>
            <a:off x="2276640" y="7093080"/>
            <a:ext cx="207468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2350800" y="324000"/>
            <a:ext cx="38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260280" y="2411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 близко от идущих машин или цепляться за них строго запрещ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post-238442-1273594121_thumb.jpg"/>
          <p:cNvPicPr/>
          <p:nvPr/>
        </p:nvPicPr>
        <p:blipFill>
          <a:blip r:embed="rId1"/>
          <a:stretch/>
        </p:blipFill>
        <p:spPr>
          <a:xfrm>
            <a:off x="260280" y="3348000"/>
            <a:ext cx="1368360" cy="20494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333360" y="6372360"/>
            <a:ext cx="53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е придерживайтесь прав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333360" y="529272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ротуарам и пешеходным дорожкам ездить на велосипедах запрещ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1700280" y="370836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ям велосипеда запрещено ездить, не держась за руль и не держа ноги на педа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620640" y="7102440"/>
            <a:ext cx="1944720" cy="1709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8"/>
          <p:cNvSpPr/>
          <p:nvPr/>
        </p:nvSpPr>
        <p:spPr>
          <a:xfrm>
            <a:off x="260280" y="1619280"/>
            <a:ext cx="62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ть велосипедом разрешается с 14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350800" y="324000"/>
            <a:ext cx="38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476280" y="176364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е, где есть две большие полосы движения в каждом направлении, развернуться и повернуть налево велосипедисты могут только как пешеходы, ведя свои велосипеды ря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7dd2572ffa5113a43b1156ff3bb138fb.jpg"/>
          <p:cNvPicPr/>
          <p:nvPr/>
        </p:nvPicPr>
        <p:blipFill>
          <a:blip r:embed="rId1"/>
          <a:stretch/>
        </p:blipFill>
        <p:spPr>
          <a:xfrm>
            <a:off x="5157720" y="2484360"/>
            <a:ext cx="1270080" cy="15112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1844640" y="4427640"/>
            <a:ext cx="47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сечении обычной дороги со специальной дорожкой для велосипедистов уступает тот, кто следует по велодорож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333360" y="4067280"/>
            <a:ext cx="1378080" cy="21603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7"/>
          <p:cNvSpPr/>
          <p:nvPr/>
        </p:nvSpPr>
        <p:spPr>
          <a:xfrm>
            <a:off x="476280" y="644364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ить на велосипеде пассажиров запрещ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8" descr="na_velosipede.jpg"/>
          <p:cNvPicPr/>
          <p:nvPr/>
        </p:nvPicPr>
        <p:blipFill>
          <a:blip r:embed="rId3"/>
          <a:stretch/>
        </p:blipFill>
        <p:spPr>
          <a:xfrm>
            <a:off x="2708280" y="7020000"/>
            <a:ext cx="16844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2350800" y="324000"/>
            <a:ext cx="38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549360" y="176364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выезжать на переезд при закрытом шлагбауме и запрещающих сигналах светоф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1773360" y="3851280"/>
            <a:ext cx="47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ясь выехать на переезд, ещё раз убедитесь в том, что слева и справа нет приближающегося пое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3635280"/>
            <a:ext cx="1871640" cy="18734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692280" y="608472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ить груз, выступающий более чем на 50 см по длине или ширине за габариты велосипеда, запрещ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202840" y="611280"/>
            <a:ext cx="41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н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ь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333360" y="169236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 на самокатах на улицу или дорогу строго запрещё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052640" y="320364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атайтесь на санках, лыжах и коньках по улицам и дор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33360" y="421164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грайте в снежки, футбол и другие игры на тротуарах и проезжей части улицы или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49360" y="572436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ешаешь пешеходам и движению  тран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ю трудно быстро остановить маш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мостовой опа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6" descr="scooter-boy-color.gif"/>
          <p:cNvPicPr/>
          <p:nvPr/>
        </p:nvPicPr>
        <p:blipFill>
          <a:blip r:embed="rId1"/>
          <a:stretch/>
        </p:blipFill>
        <p:spPr>
          <a:xfrm>
            <a:off x="2924280" y="2124000"/>
            <a:ext cx="880920" cy="930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ar129573181086606.jpg"/>
          <p:cNvPicPr/>
          <p:nvPr/>
        </p:nvPicPr>
        <p:blipFill>
          <a:blip r:embed="rId2"/>
          <a:stretch/>
        </p:blipFill>
        <p:spPr>
          <a:xfrm>
            <a:off x="260280" y="3059280"/>
            <a:ext cx="733320" cy="955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8" descr="soccerboy.gif"/>
          <p:cNvPicPr/>
          <p:nvPr/>
        </p:nvPicPr>
        <p:blipFill>
          <a:blip r:embed="rId3"/>
          <a:stretch/>
        </p:blipFill>
        <p:spPr>
          <a:xfrm>
            <a:off x="5732640" y="4716360"/>
            <a:ext cx="877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048760" y="324000"/>
            <a:ext cx="44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г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60280" y="176364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идёте по улице группой с учителем, постройтесь в ряд парами и двигайтесь по правой стороне тротуара. Так вы не будете мешать другим пешехо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333360" y="414036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улицу надо по пешеходному переходу. Идти шагом. Без разрешения учителя выходить из строя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404640" y="630072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лицах с большим движением транспорта перейти через улицу вам поможет работник пол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5" descr="8129527-un-grupo-de-pequenas-de-kids-cruzando-la-calle-going-to-school.jpg"/>
          <p:cNvPicPr/>
          <p:nvPr/>
        </p:nvPicPr>
        <p:blipFill>
          <a:blip r:embed="rId1"/>
          <a:stretch/>
        </p:blipFill>
        <p:spPr>
          <a:xfrm>
            <a:off x="2708280" y="5292720"/>
            <a:ext cx="1441440" cy="993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0_6d478_cfd1b8c4_XL.jpg"/>
          <p:cNvPicPr/>
          <p:nvPr/>
        </p:nvPicPr>
        <p:blipFill>
          <a:blip r:embed="rId2"/>
          <a:stretch/>
        </p:blipFill>
        <p:spPr>
          <a:xfrm>
            <a:off x="2852640" y="3348000"/>
            <a:ext cx="835200" cy="792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mult41 (1).jpg"/>
          <p:cNvPicPr/>
          <p:nvPr/>
        </p:nvPicPr>
        <p:blipFill>
          <a:blip r:embed="rId3"/>
          <a:stretch/>
        </p:blipFill>
        <p:spPr>
          <a:xfrm>
            <a:off x="692280" y="7451640"/>
            <a:ext cx="10810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2565360" y="250920"/>
            <a:ext cx="319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й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333360" y="205092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улицу следует по подземным переходам или по специальным пешеходным дорож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549360" y="3924360"/>
            <a:ext cx="496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нужно взглянуть на светофор. При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ом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вете переходить улицу нельзя. А если гори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еле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вет, посмотри налево… если там нет никакого движущегося транспорта - смело шагай до середины улицы. Там остановись и посмотри направо. Если и на этот раз нет никаких машин, шагай дальше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9T10:50:25Z</dcterms:created>
  <dc:creator>Компас</dc:creator>
  <dc:description/>
  <dc:language>en-US</dc:language>
  <cp:lastModifiedBy>Компас</cp:lastModifiedBy>
  <dcterms:modified xsi:type="dcterms:W3CDTF">2012-08-20T13:55:31Z</dcterms:modified>
  <cp:revision>38</cp:revision>
  <dc:subject/>
  <dc:title>Слайд 1</dc:title>
</cp:coreProperties>
</file>